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1AE-C119-463F-8468-C7151339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25E-873F-4D30-B932-78CB0345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044-82FF-490E-B566-237AD279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B1A-A158-49F5-939B-8FE0C823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4A9-4077-47D3-9D4E-0C79BC60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A42-AF9D-4A5C-A3F7-B097EE9D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B84-7EF9-4F1B-B5CD-ED0A78B6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EAB-808C-48FE-BD1D-544AF7CF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438-7E38-40C4-9DF7-53E5E9D0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509-85C8-46BF-8248-46911263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401-A9A9-4D2D-BBEF-5BD1F10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D91-1C24-4626-8740-EAE744B5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8892-FC16-4814-BAD4-02E573EF9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static.flickr.com/69/213515876_c2ef807c92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hyperlink" Target="http://www.dkimages.com/discover/previews/741/60561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wmf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808360" cy="278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51280" y="1628640"/>
            <a:ext cx="3168720" cy="2952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3041640"/>
            <a:ext cx="3024360" cy="295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796000" y="476280"/>
            <a:ext cx="3062160" cy="27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179280" y="314172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573360"/>
            <a:ext cx="3673440" cy="3098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3541680" cy="345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3132000" y="1700280"/>
            <a:ext cx="3240360" cy="281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5796000" y="3716280"/>
            <a:ext cx="2863800" cy="290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395280" y="476280"/>
            <a:ext cx="37450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177336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170028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nubla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549360"/>
            <a:ext cx="352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Va a est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58323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177336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170028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despeja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549360"/>
            <a:ext cx="352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Va a est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3068640"/>
            <a:ext cx="3659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69228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620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nevan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54936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Va 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718160" cy="4267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5640" y="54936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nev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32000" y="2492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¿Qué tiempo va a hacer mañan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620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11280" y="2060640"/>
            <a:ext cx="4321440" cy="4281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83664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Comic Sans MS"/>
              </a:rPr>
              <a:t>Va a ha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620640"/>
            <a:ext cx="18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620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765000"/>
            <a:ext cx="40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Comic Sans MS"/>
              </a:rPr>
              <a:t>Va a ha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620640"/>
            <a:ext cx="21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fr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í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201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620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765000"/>
            <a:ext cx="4392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500" spc="-1" strike="noStrike">
                <a:solidFill>
                  <a:srgbClr val="000000"/>
                </a:solidFill>
                <a:latin typeface="Comic Sans MS"/>
              </a:rPr>
              <a:t>Va a hac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620640"/>
            <a:ext cx="44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mal tiemp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39276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620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836640"/>
            <a:ext cx="4464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500" spc="-1" strike="noStrike">
                <a:solidFill>
                  <a:srgbClr val="000000"/>
                </a:solidFill>
                <a:latin typeface="Comic Sans MS"/>
              </a:rPr>
              <a:t>Va a hac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620640"/>
            <a:ext cx="44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buen tiemp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34128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620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836640"/>
            <a:ext cx="4248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500" spc="-1" strike="noStrike">
                <a:solidFill>
                  <a:srgbClr val="000000"/>
                </a:solidFill>
                <a:latin typeface="Comic Sans MS"/>
              </a:rPr>
              <a:t>Va a hac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62064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4753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7640" y="620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836640"/>
            <a:ext cx="4248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500" spc="-1" strike="noStrike">
                <a:solidFill>
                  <a:srgbClr val="000000"/>
                </a:solidFill>
                <a:latin typeface="Comic Sans MS"/>
              </a:rPr>
              <a:t>Va a hac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6360" y="62064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2483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69228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4222800" cy="429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67280" y="620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lovien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620640"/>
            <a:ext cx="25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Va 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692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lov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7:59:37Z</dcterms:created>
  <dc:creator>Chris Fuller</dc:creator>
  <dc:description/>
  <dc:language>en-US</dc:language>
  <cp:lastModifiedBy>Chris Fuller</cp:lastModifiedBy>
  <dcterms:modified xsi:type="dcterms:W3CDTF">2007-10-22T09:18:34Z</dcterms:modified>
  <cp:revision>3</cp:revision>
  <dc:subject/>
  <dc:title>Slide 1</dc:title>
</cp:coreProperties>
</file>